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95E-5694-4611-BC78-9F5290B4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776-D355-453E-9E33-A41D6ADF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FB8-F99E-4BDE-B53E-29A3AB47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D48-EF9E-431C-B21A-B862FD9E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67EE-7511-4D82-822B-0AF138FF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6B15-3421-4A2E-A0FE-19100105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0B86-0AEB-49F4-8D3D-3AD105C9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8803-65EC-414C-A0C2-5BD10BD4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977A-8A46-4C16-AC14-D7F67935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7972-562E-464E-8241-2FB7E375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A6B6-9111-4BA4-ABC4-BC4B06B4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1FC-B307-49BE-864C-34A4A655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8935-56BA-4956-859A-9938D0FA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A360-DC01-411A-8141-8251B85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6DC2-3200-4FF4-BA53-86CEB8B6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2876-D80B-4F11-8700-4452730B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3E0E-04C8-44B4-A217-13779355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86A-5C16-41D1-B4F6-FF99C538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AB9-042C-49D8-A355-EAF4EC71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2ED-CCD7-430F-AE22-0A6B64B4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B9E-1DD7-41CC-B2CF-8D8945A2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D47-4BA1-4CD2-8AAE-5DF1BA8A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A69-75C0-4EDF-A5C9-D58F080A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FBF-16D7-4CE4-A9F3-02A8503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C5A1-B32B-4E10-ADA2-2DF4649110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5d5d5"/>
                </a:gs>
                <a:gs pos="100000">
                  <a:srgbClr val="cdcdc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dcd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dcdc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00CE-1027-4976-A169-81109221F1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a Empre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ganigrama por Productos o Servic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8200" y="1768320"/>
          <a:ext cx="8056440" cy="35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768320"/>
                    <a:ext cx="8056440" cy="35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ganigrama por Cl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79400" y="1600200"/>
          <a:ext cx="734220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600200"/>
                    <a:ext cx="734220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grama Mi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22400" y="1768320"/>
          <a:ext cx="7099200" cy="38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2400" y="1768320"/>
                    <a:ext cx="709920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AS FUNCIONALES DE LA EMPRES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03520"/>
            <a:ext cx="82296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-3542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 RR.H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-3542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-3542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 ECONÓMICA-FINANCI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-3542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8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258920" y="1413000"/>
            <a:ext cx="705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AS AREA FUN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CION DE RIESGOS LABOR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+D+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DIOAMBI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gún el Sector de Actividad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Empresas del Sector Primar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También denominado extractivo, ya que el elemento básico de la actividad se obtiene directamente de la naturaleza: agricultura, ganadería, caza, pesca, extracción de áridos, agua, minerales, petróleo, energía eólica, etc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Empresas del Sector Secundario o Industri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Se refiere a aquellas que realizan algún proceso de transformación de la materia prima. Abarca actividades tan diversas como la construcción, la óptica, la maderera, la textil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Empresas del Sector Terciario o de Servicio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cluye a las empresas cuyo principal elemento es la capacidad humana para realizar trabajos físicos o intelectuales. Comprende también una gran variedad de empresas, como las de transporte, bancos, comercio, seguros, hotelería, asesorías, educación, restaurantes, etc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gún el Tamañ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Grandes Empresa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ás de 250 Trabajadores/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Mediana empresa: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si tiene entre 50 y 249 trabajadores/as, la cifra de volumen de negocio no supera los 50 millones de euros, y el valor de su patrimonio no es superior a 43 millones de eur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Pequeña empresa: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si tiene entre 10 y 49 trabajadores/as, y la cifra de volumen de negocio y el valor de su patrimonio no excede cada una de 10 millones de euros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Microempresa: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si tiene menos de 10 trabajadores y siempre que la cifra de volumen de negocios y el valor de su patrimonio no exceda cada una de 2 millones de euros</a:t>
            </a: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gún la Propiedad del Capit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 Privad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La propiedad del capital está en manos privadas 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 Pública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: Es el tipo de empresa en la que el capital le pertenece al Estado, que puede ser Estatal, Comunidad Autónoma o Municipal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 Mixt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Es el tipo de empresa en la que la propiedad del capital es compartida entre el Estado y los particular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gún la forma jurídic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sona Fí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resario Individu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unidad de Bienes (C.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cieda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edad Limitada (S.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edad Anónima (S.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edad Limitada Laboral (S.L.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ciedad Anónima Laboral (S.A.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perati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IFICACIÓN DE LAS EMPRESAS 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gún el Destino de los Benef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s con Ánimo de Lucro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Cuyos excedentes pasan a poder de los propietarios, accionistas, etc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Verdana"/>
              </a:rPr>
              <a:t>Empresas sin Ánimo de Lucro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En este caso los excedentes se vuelcan a la propia empresa para permitir su desarroll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a Empre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cepto de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mento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ganización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tructura de la Empresa: Organi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cep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po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Áreas Funcionale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ificación de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isión, Visión y Valore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 puesto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403280" y="1412640"/>
            <a:ext cx="63374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ión, Visión y Valores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Misión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Define el negocio al que se dedica la organización, las necesidades que cubren con sus productos y servicios, el mercado en el cual se desarrolla la empresa y la imagen pública de la empresa u organizació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ión de la empresa es la respuesta a la pregunta , </a:t>
            </a:r>
            <a:r>
              <a:rPr b="1" i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¿Para que existe la organización?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e y describe la situación futura que desea tener la empresa, el propósito de la visión es guiar, controlar y alentar a la organización en su conjunto para alcanzar el estado deseable de la organizació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a visión de la empresa es la respuesta a la pregunta, ¿Qué queremos que sea la organización en los próximos año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Valor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3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Define el conjunto de </a:t>
            </a: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principios, creencias, reglas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Arial"/>
              </a:rPr>
              <a:t> que regulan la gestión de la organización. Constituyen la filosofía institucional y el soporte de la cultura organizac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básico de la definición de valores corporativos es el de tener un marco de referencia que inspire y regule la vida de la organización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EPTO DE EMPRE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l conjunto d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sona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que aportando unas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pital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bienes),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otras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rabajo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se proponen (bajo una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rganizació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omún) el logro de unos determinados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que constituyen el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de la empresa y que se legitima por el doble hecho de añadir valor económico, es decir, crear riqueza y prestar unos servicios a la sociedad en la que la empresa está ubicada” (TERMES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042560" y="1483920"/>
            <a:ext cx="705636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EMENTOS DE LA EMPRE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16000" y="1773360"/>
          <a:ext cx="7386480" cy="47084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255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UPO HUM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ietarios del 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bajad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ENES ECONÓM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rad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durade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med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junto de relaciones de autorid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JE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tener benefic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durar en el ti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omic Sans MS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tisfacer necesidades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ZACIÓN DE LA EMPRES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17360"/>
            <a:ext cx="404028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da deliberadamente por la empr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6160" y="1846080"/>
            <a:ext cx="404028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ge espontáneamente entre los trabaj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484280"/>
            <a:ext cx="0" cy="482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RUCTURA DE LA EMPRESA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GANI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 Organigrama de la empres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 la representación gráfica de la estructura formal de la empre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402920" y="1989000"/>
            <a:ext cx="59770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IPOS DE ORGANIGRAM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C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DUC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RRITOR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336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X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9640" y="1484280"/>
            <a:ext cx="777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ganigrama Fun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090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090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ganigrama Terri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1600200"/>
          <a:ext cx="822960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229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50:35Z</dcterms:created>
  <dc:creator>departamento1</dc:creator>
  <dc:description/>
  <dc:language>en-US</dc:language>
  <cp:lastModifiedBy>Maribel</cp:lastModifiedBy>
  <dcterms:modified xsi:type="dcterms:W3CDTF">2011-09-13T08:41:23Z</dcterms:modified>
  <cp:revision>20</cp:revision>
  <dc:subject/>
  <dc:title>El Entorno de Trabajo:  La Empresa </dc:title>
</cp:coreProperties>
</file>